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6329-E62E-4180-A99C-92ADD4EB4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Inspiration/brainstorm as a group (Kelly) One teach/One as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saved template to make a comparis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mmercial one more time and provide reflection cards. (Ke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put their names on them and co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end to them in the couri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wiki with the pic link. (Li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hem to the address on their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m the resource pages and they can access it whenever they want to access resources regarding co teach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introduce ourselves (Kelly &amp; Linda)TEAM T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viewing commercial remind the participants that communication is the key to a successful teaching relationship.  Trust must be built over time.  Today we will have them partner up with the same partner for the hour.  Have them partner up with an educator in their secondary level. (Kelly) (one teach one as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phor explanation (Linda &amp; Kelly) TEAM TEAC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ners complete poster (Li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eachers hang their metaph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Inspiration/brainstorm as a group (Kelly) One teach/One as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saved template to make a comparis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817DE-7FE5-4C57-8E8A-E598C02DA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2D0A1-4550-4065-9694-473B71FAB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DF7A0-FE0C-4614-BF05-8668A5C8A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02427-10A6-4AF5-B706-09D08A723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AE10B-E0D4-4F55-9168-B7BC7856D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E5CEA-177A-4AB3-B5E1-76DA5C079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4990D-B398-4A4A-AC9E-C0A942C11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20C5D-3AA1-4DC2-A314-C737FB681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E6269-EDA2-4510-B9D0-E6C431AE7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94408-7224-4209-970D-C4A66A905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6B78E-4E6C-4A85-827F-6E730A0BB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A5D7E-1E57-4A2F-B0E9-B2C3EF8E6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lly Kirby &amp; Linda Mangiafico</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 descr=""/>
          <p:cNvPicPr/>
          <p:nvPr/>
        </p:nvPicPr>
        <p:blipFill>
          <a:blip r:embed="rId2"/>
          <a:stretch/>
        </p:blipFill>
        <p:spPr>
          <a:xfrm>
            <a:off x="6629400" y="6172200"/>
            <a:ext cx="1828800" cy="523800"/>
          </a:xfrm>
          <a:prstGeom prst="rect">
            <a:avLst/>
          </a:prstGeom>
          <a:ln w="0">
            <a:noFill/>
          </a:ln>
        </p:spPr>
      </p:pic>
      <p:pic>
        <p:nvPicPr>
          <p:cNvPr id="6" name="" descr=""/>
          <p:cNvPicPr/>
          <p:nvPr/>
        </p:nvPicPr>
        <p:blipFill>
          <a:blip r:embed="rId3"/>
          <a:stretch/>
        </p:blipFill>
        <p:spPr>
          <a:xfrm>
            <a:off x="4724280" y="3505320"/>
            <a:ext cx="4419720" cy="26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fcpscoteaching.wikispaces.com/" TargetMode="External"/><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Teach Will Reach</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igsaw</a:t>
            </a:r>
            <a:endParaRPr b="0" lang="en-US" sz="4400" spc="-1" strike="noStrike">
              <a:solidFill>
                <a:srgbClr val="000000"/>
              </a:solidFill>
              <a:latin typeface="Arial"/>
            </a:endParaRPr>
          </a:p>
        </p:txBody>
      </p:sp>
      <p:graphicFrame>
        <p:nvGraphicFramePr>
          <p:cNvPr id="68" name=""/>
          <p:cNvGraphicFramePr/>
          <p:nvPr/>
        </p:nvGraphicFramePr>
        <p:xfrm>
          <a:off x="457200" y="1600200"/>
          <a:ext cx="8229600" cy="1828800"/>
        </p:xfrm>
        <a:graphic>
          <a:graphicData uri="http://schemas.openxmlformats.org/drawingml/2006/table">
            <a:tbl>
              <a:tblPr/>
              <a:tblGrid>
                <a:gridCol w="2590920"/>
                <a:gridCol w="5638680"/>
              </a:tblGrid>
              <a:tr h="70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 prepare to co-teach, role of the principal, role of co-teach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s co-teaching, plann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ng, Assessing, Final Though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ve Journal</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ow will you turn one of your Con’s of co-teaching into a Pr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 teaching Wiki</a:t>
            </a:r>
            <a:endParaRPr b="0" lang="en-US" sz="4400" spc="-1" strike="noStrike">
              <a:solidFill>
                <a:srgbClr val="000000"/>
              </a:solidFill>
              <a:latin typeface="Arial"/>
            </a:endParaRPr>
          </a:p>
        </p:txBody>
      </p:sp>
      <p:sp>
        <p:nvSpPr>
          <p:cNvPr id="72"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a:hlinkClick r:id="rId1"/>
          </p:cNvPr>
          <p:cNvPicPr/>
          <p:nvPr/>
        </p:nvPicPr>
        <p:blipFill>
          <a:blip r:embed="rId2"/>
          <a:stretch/>
        </p:blipFill>
        <p:spPr>
          <a:xfrm>
            <a:off x="685800" y="1523880"/>
            <a:ext cx="4114800" cy="350856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 Someone Wh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entury Gothic"/>
              </a:rPr>
              <a:t>Making it Work for You and Your Students</a:t>
            </a:r>
            <a:endParaRPr b="0" lang="en-US" sz="4400" spc="-1" strike="noStrike">
              <a:solidFill>
                <a:srgbClr val="000000"/>
              </a:solidFill>
              <a:latin typeface="Arial"/>
            </a:endParaRPr>
          </a:p>
        </p:txBody>
      </p:sp>
      <p:sp>
        <p:nvSpPr>
          <p:cNvPr id="55" name="PlaceHolder 2"/>
          <p:cNvSpPr>
            <a:spLocks noGrp="1"/>
          </p:cNvSpPr>
          <p:nvPr>
            <p:ph type="subTitle"/>
          </p:nvPr>
        </p:nvSpPr>
        <p:spPr>
          <a:xfrm>
            <a:off x="1600200" y="304920"/>
            <a:ext cx="6400800" cy="175248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o-Teaching</a:t>
            </a:r>
            <a:endParaRPr b="0" lang="en-US" sz="7200" spc="-1" strike="noStrike">
              <a:solidFill>
                <a:srgbClr val="000000"/>
              </a:solidFill>
              <a:latin typeface="Arial"/>
            </a:endParaRPr>
          </a:p>
        </p:txBody>
      </p:sp>
      <p:pic>
        <p:nvPicPr>
          <p:cNvPr id="56" name="" descr=""/>
          <p:cNvPicPr/>
          <p:nvPr/>
        </p:nvPicPr>
        <p:blipFill>
          <a:blip r:embed="rId1"/>
          <a:stretch/>
        </p:blipFill>
        <p:spPr>
          <a:xfrm>
            <a:off x="4724280" y="3505320"/>
            <a:ext cx="4419720" cy="26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y a class on co-teac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llabu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62"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a community of lear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e the “Why’s” of co-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the Pro’s and Con’s of co-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 your needs as a learner in this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380880"/>
            <a:ext cx="8686800" cy="35053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teaching is like </a:t>
            </a:r>
            <a:r>
              <a:rPr b="1" i="1" lang="en-US" sz="3600" spc="-1" strike="noStrike" u="sng">
                <a:solidFill>
                  <a:srgbClr val="000000"/>
                </a:solidFill>
                <a:uFillTx/>
                <a:latin typeface="Arial"/>
              </a:rPr>
              <a:t>a sports ca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cause</a:t>
            </a:r>
            <a:r>
              <a:rPr b="0"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it’s open to fresh air and new ide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you’re always shifting ge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there’s lots of stuff in a small space</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are lots of models from which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o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28600" y="304920"/>
            <a:ext cx="8610480" cy="35049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teaching is like ___________________</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o-Teach?</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14:43:10Z</dcterms:created>
  <dc:creator>fcps</dc:creator>
  <dc:description/>
  <dc:language>en-US</dc:language>
  <cp:lastModifiedBy>fcps</cp:lastModifiedBy>
  <dcterms:modified xsi:type="dcterms:W3CDTF">2009-01-30T15:03:19Z</dcterms:modified>
  <cp:revision>12</cp:revision>
  <dc:subject/>
  <dc:title>Making it Work for You and Your Students</dc:title>
</cp:coreProperties>
</file>